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5.jpeg" ContentType="image/jpeg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5FFCA-FA91-40D9-93D9-476C9DC32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CFB03-79A0-4BC9-BBC3-482779896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403867-9FFE-4BAB-8196-79A14BDA8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77D403-E53F-4308-9217-3979C1982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3DA8F4-AC1A-47AB-9056-0C755960C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A60720-C70B-48B6-8F67-C107E8B9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4A78DB-011C-4BC7-AA24-F166CD8C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FB86E0-519C-4330-8F47-E5706239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61455A-66F7-4EAF-8667-A39F64A45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FBC764-3F32-4A95-9811-6F109B97F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FDDD8F-6B98-4EAB-A7F9-3B7290562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B67011-6976-4AF2-A40F-309312234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F6B23-5240-4656-8DA8-D07403142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20B719-694F-4255-87BE-11BCF82AF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2CCC55-FA4D-4B51-856A-0F52E68AE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6B1376-C136-4EDE-8E50-FC7807350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B1998E-3429-454A-9698-C83386BBB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0D9609-3CD0-4DF2-B5CB-6C06DF448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AE050D-5151-4CEA-B068-24AABB1D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DB153A-AC5C-402C-BF40-6E9811E9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B0C99F-89CB-4987-8B2F-66CEC71B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49F605-0DC2-434A-B1E0-E013692E6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8A2A4E-7548-42EC-AC64-448B5DDAC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4C27F-A17D-4CFE-823D-6DBB2C200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3B86CD-AC32-470E-9218-3BA3A33D2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0EE5D7-77F6-4726-BD9B-5D1857500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B2BE4B-FCB8-40AF-B166-18B9B38CE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1AA009-44D3-4BE2-ADE3-4612EC2E0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DDB307-056F-4FE7-A9FA-7CF5A997C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39246F-9F0B-45BB-9E27-44047A669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93A04C-4794-42B0-B0A9-F2A0D8DBA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D4D962-1DD2-48E1-A6F0-4017B361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B6F275-7ADC-4D88-8227-5FE91459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0B5A55-1CC6-4441-9442-E56B3ADA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5151EE-B75A-4774-9A51-568D46A26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92032B-5CAB-464A-9DD1-D1EE82C98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763247-7B0C-4BD2-B58C-583E5EA74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54859C-A92B-4736-9C7D-BFCD13814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5EBC16-99ED-4480-ADC1-3CBF47D58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5613FB-AAFE-4420-BBA5-7FF0A2B08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4315B4-DD5F-4955-846A-26FBE79B3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72A601-F050-4372-8BA2-5AC946754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BE836D-ED2D-428A-A298-649FBE786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9C2240-B4F8-49F5-9821-B7BD2BBEE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1AA2D6-6C6F-4814-8DD8-475DC2BD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1FAE46-5722-45ED-965C-327D6F192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8026DC-8AB6-4FC8-AC36-D18F610A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8741FA-F561-4FD5-9709-FD861AA7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7B6FE2-6C20-46C1-A772-80EFDE684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9F44F0-D17C-4571-B0DB-3221DB45C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2A2D2B-A605-43E3-B994-F5C77E5FA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00BD11-4C58-4577-8118-654C4CC34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E8D782-C8B0-487D-BDB3-3A71C1C79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093FC7-8CF8-48C2-9857-85B840823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7E6D69-8667-4959-A8E9-8F40D9D2F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5A3637-6B65-4FB4-9244-1558C0E47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455204-EA46-4585-AF32-7DF17DFDB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56264B-2D1B-4448-B33C-A1972F2C4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D65F51-9726-460F-9214-B6ED5CF9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7E9AD7-96C1-45BE-AC7B-CA6D114E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5DB407-1F14-48F2-BE67-D18C9D8F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745BB2-293B-433E-AF35-3C5A025A9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90B86C-A8F5-4B00-A877-59AFCD732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977899-87AA-4554-BB64-0A27FD3A5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609725-F43F-44EB-A9F6-FBC09DD1B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DD513A-5D45-42D4-A53A-24761C27C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427479-7F5E-4C6F-92D4-A1CD680D4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9B8A7A-C8EB-43C7-B790-43C8F0C8A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327728-1099-4571-919F-642495CB3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940980-1F53-4E5B-81F7-6111EB635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D827F1-6267-4F7B-AEFE-51273B199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3AF672-522F-4C80-9701-B28FDA8C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08008F-73BB-4378-8330-58424499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E437D6-3214-4C16-A7F5-907606B0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E708AB-9758-46E0-85C9-C120B9F82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D29253-60C2-4090-9103-221E598DF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7E3558-47D6-4780-A56E-6FF4E0BD8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EB8F35-9643-41E2-AAAC-B2CA1B23A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DB4277-F80B-4209-914F-FA8B47A0C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A38946-9C1A-40FE-989B-C7EFC601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22175-4A8C-44B4-9332-D2D956AEF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B93228-F398-4217-8E45-E518BAA4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F4031E-E1F2-4C15-A842-D9CBFEDB9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5FB52A-15E8-4946-8DDA-D6CA47D9E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F9CB07-58E9-41A8-B97D-DBD2AD0EC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C68693-53A3-4E16-A30D-263724349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73EAE-FA87-49CE-AF39-D9A86740D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54741-8264-40A6-8E37-7197613AF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F5B1E-452A-40B1-BFCD-5A88E3CB1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7DFDB-A2A1-49B6-831A-5E5577D07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D4016-9FA4-4C42-9FAB-830FE2116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73E3E-ABDD-42E7-8C7E-71D20638E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FB7E4-7270-4303-B453-483D609AB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B332A-94D4-4463-8FE6-590BC95A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A7856-4410-4646-8550-AE69831E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7AEE4-0EFD-488A-8BE9-26A4FE79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B0C66-B1CF-4ED7-9E1C-486B939AC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8F5FD-8366-4D61-8A92-6B68D5D83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E979F-2399-4FEF-9F56-99849A119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F3BFF-F2CE-4299-B5AD-9B909887E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E3864-7C69-40A8-90BC-388F23DF2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CB2ED-ABF1-4595-B13B-8396FC792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FC5C4-4732-4376-8401-39F790715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21F2A-C75E-446F-A7D8-20C7CAFD5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30832-8CD0-4957-8E43-7FE63DE5F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CB63F-E4E6-49B1-AC46-0B554DC90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F0455-03E0-4EDE-B16E-C7A64EB1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A9778-DBFD-447B-9D57-DE9BC22E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5431F-0591-4CEF-BD1B-79529C99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3B939-50AA-4835-8A37-69B007990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451E6-25D9-4883-A5BE-CA7E9F8C4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87D9E-17FC-425C-9072-8D1E00CEE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D1D59-3D00-40EC-B88A-77A61F2AE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563FD-0E4E-4CEB-890B-10B503143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7468C-6CEE-4D05-8C61-483F7F455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A75F6-C015-4F61-96C3-8C787CEF5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AEA04-ED71-43A6-A352-E23065195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55990-7480-46F7-A6CE-DE61A121C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6AF25-EF36-4FC7-90D6-AACDA08E1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08C06-9D40-4814-BC56-A7F967FE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5EA7E-4898-4AA4-A83B-D3F96B14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CDFB1-7625-4AF2-8EB4-34287F40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BF670-52B3-403F-88D3-FA023CB90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74BF9-909F-4C13-83C1-D204BDBF6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F1209-6CE2-4743-AC37-361B5907C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F9FC9-DC2A-4F79-A458-AB578BB1B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B2640C-F8BA-4C7F-BE03-3613B5773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164EE-DD6C-46D5-83FF-892CADF7F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0E9F9-DEC9-49AC-BA47-B7C47E643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262FA-E2A2-4891-92F5-7BCDA533E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3A530-4149-4159-A293-11113CF0D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E23687-B732-4776-8703-A452C76F1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9383F-7CA6-4213-ACCE-4107269F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BF489-1F50-4A6C-A8F2-D9139609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ED9C5-DB99-4BB3-B8F4-928D4D7A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E9D52-9153-488F-B4C2-C628F66E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1E766-9013-4F49-9874-AB4551077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A3AF2-9CC1-404F-9683-8A15F26AA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C51504-1586-4402-8440-85714093E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43277-2DCD-475F-AAD1-A544AD53A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75209B-CEFA-4BFA-B8C8-846D200BD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AB4116-3F43-48FB-BE4C-8BA12B859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B9FCE3-2869-4BD8-88BE-12EA3A672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7D052D-ECDF-44DC-A19B-538BC6947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5A2715-44E0-4A87-9437-A0C95EA79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AE19B-D06A-48DB-8B23-09E01C98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39446-D542-44DC-AC8F-B332C878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A9C3DC-8FD0-4610-A1B5-685FEBFC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FA1044-16B4-428A-9093-E0F88F000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AF5712-D614-439D-82A6-041179070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E22ABB-8308-49BF-85C8-DBBFD5299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E19A70-61FB-48F6-AAC2-A903AE769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E9EDC6-D353-4F87-BB0C-98EFE511F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3F00A6-757C-496D-BBE3-55E059B83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E074E4-0BB7-4319-A753-CC9ED2E8B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00852A-C722-4B06-A816-9BE8B59BC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1B91FE-0D45-48D3-8E58-34CF6A4FE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58631-30F0-4A79-BD0F-D4EF29D2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CAD515-5496-477A-965E-98CDC1EC1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56B8FC-1EF9-4691-8E2C-E972D53E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8DCC93-8732-4913-B5DE-4C62E394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F36C08-0963-42B5-B4A5-A4934AE3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C0C519-7D82-4A60-B7EF-77C9BDEDC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41C0FF-A29F-413F-A249-CA32BC9AF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8D5984-9323-44BD-B75B-4D9B238DA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77AF79-491B-4E3D-A293-07280F060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BA4C8A-504B-47E1-B377-A2A1AA0D1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7BA6EC-5B64-4D9F-848E-7A74144EF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43316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bdbdb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dbdbdb"/>
              </a:solidFill>
              <a:latin typeface="Book Antiqua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8e9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Прямая соединительная линия 1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8e9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Овал 13"/>
          <p:cNvSpPr/>
          <p:nvPr/>
        </p:nvSpPr>
        <p:spPr>
          <a:xfrm>
            <a:off x="4540320" y="3525840"/>
            <a:ext cx="46080" cy="46080"/>
          </a:xfrm>
          <a:custGeom>
            <a:avLst/>
            <a:gdLst>
              <a:gd name="textAreaLeft" fmla="*/ 6480 w 46080"/>
              <a:gd name="textAreaRight" fmla="*/ 39600 w 46080"/>
              <a:gd name="textAreaTop" fmla="*/ 6480 h 46080"/>
              <a:gd name="textAreaBottom" fmla="*/ 39600 h 460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0800" y="0"/>
                </a:lnTo>
                <a:arcTo wR="10800" hR="10800" stAng="-5400000" swAng="0"/>
                <a:close/>
              </a:path>
            </a:pathLst>
          </a:custGeom>
          <a:solidFill>
            <a:srgbClr val="f3a447"/>
          </a:solidFill>
          <a:ln w="38160">
            <a:solidFill>
              <a:srgbClr val="f3a4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Book Antiqu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36384-1357-42B3-9145-2257081D9B1D}" type="datetime">
              <a:rPr b="0" lang="ru-RU" sz="2400" spc="-1" strike="noStrike">
                <a:solidFill>
                  <a:srgbClr val="ffffff"/>
                </a:solidFill>
                <a:latin typeface="Book Antiqua"/>
                <a:ea typeface="Lucida Sans Unicode"/>
              </a:rPr>
              <a:t>29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2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Book Antiqu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DBD13-933C-4DD0-BD63-3B84E88C1A2B}" type="slidenum">
              <a:rPr b="0" lang="ru-RU" sz="2400" spc="-1" strike="noStrike">
                <a:solidFill>
                  <a:srgbClr val="ffffff"/>
                </a:solidFill>
                <a:latin typeface="Book Antiqua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3"/>
          </p:nvPr>
        </p:nvSpPr>
        <p:spPr>
          <a:xfrm>
            <a:off x="2133720" y="6203520"/>
            <a:ext cx="35812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Aft>
                <a:spcPts val="1412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3" marL="1600200" indent="-228600">
              <a:spcAft>
                <a:spcPts val="1412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4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5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6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3360C-5139-4A66-88F4-0FD9C6B9EE60}" type="datetime">
              <a:rPr b="0" lang="en-US" sz="1200" spc="-1" strike="noStrike">
                <a:solidFill>
                  <a:srgbClr val="bcbcbc"/>
                </a:solidFill>
                <a:latin typeface="Book Antiqu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00262-3E80-46F9-BF64-CD0D878A1602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CF8A7-BD95-4EDC-8B3D-AB02871E3705}" type="datetime">
              <a:rPr b="0" lang="en-US" sz="1200" spc="-1" strike="noStrike">
                <a:solidFill>
                  <a:srgbClr val="bcbcbc"/>
                </a:solidFill>
                <a:latin typeface="Book Antiqu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CC2D2-13C6-4C3E-8BBD-0173E24BC5A1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832D7-6F12-4C76-A47F-82DAE4541804}" type="datetime">
              <a:rPr b="0" lang="en-US" sz="1200" spc="-1" strike="noStrike">
                <a:solidFill>
                  <a:srgbClr val="bcbcbc"/>
                </a:solidFill>
                <a:latin typeface="Book Antiqu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94D94-4A58-4538-BE56-1516F607C985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F7059-71CA-46A0-849E-E05DFC1D474C}" type="datetime">
              <a:rPr b="0" lang="en-US" sz="1200" spc="-1" strike="noStrike">
                <a:solidFill>
                  <a:srgbClr val="bcbcbc"/>
                </a:solidFill>
                <a:latin typeface="Book Antiqu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1386-3F57-4C98-8C33-0816BE029ABA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40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042CC-354B-4144-8ABE-8E8A91D5749F}" type="datetime">
              <a:rPr b="0" lang="en-US" sz="1200" spc="-1" strike="noStrike">
                <a:solidFill>
                  <a:srgbClr val="bcbcbc"/>
                </a:solidFill>
                <a:latin typeface="Book Antiqu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41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42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EFC05-D8E7-4F57-B639-F36C4F0142FE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>
              <a:spcBef>
                <a:spcPts val="649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>
              <a:spcBef>
                <a:spcPts val="649"/>
              </a:spcBef>
              <a:buClr>
                <a:srgbClr val="ffff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2">
              <a:spcBef>
                <a:spcPts val="649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3">
              <a:spcBef>
                <a:spcPts val="649"/>
              </a:spcBef>
              <a:buClr>
                <a:srgbClr val="ffff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4">
              <a:spcBef>
                <a:spcPts val="649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5">
              <a:spcBef>
                <a:spcPts val="6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6">
              <a:spcBef>
                <a:spcPts val="6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Book Antiqu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59DAB-6866-4150-9D5D-C134D467E63E}" type="datetime">
              <a:rPr b="0" lang="ru-RU" sz="2400" spc="-1" strike="noStrike">
                <a:solidFill>
                  <a:srgbClr val="ffffff"/>
                </a:solidFill>
                <a:latin typeface="Book Antiqua"/>
                <a:ea typeface="Lucida Sans Unicode"/>
              </a:rPr>
              <a:t>29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Book Antiqu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7B147-A28A-4A86-9B2B-9A3382C296D7}" type="slidenum">
              <a:rPr b="0" lang="ru-RU" sz="2400" spc="-1" strike="noStrike">
                <a:solidFill>
                  <a:srgbClr val="ffffff"/>
                </a:solidFill>
                <a:latin typeface="Book Antiqua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bdbdb"/>
                </a:solidFill>
                <a:latin typeface="Book Antiqua"/>
              </a:rPr>
              <a:t>Click to edit the title text format</a:t>
            </a:r>
            <a:endParaRPr b="0" lang="en-US" sz="4200" spc="-1" strike="noStrike">
              <a:solidFill>
                <a:srgbClr val="dbdbdb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13EE4-59F1-432C-A397-50C5CCE542F7}" type="datetime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94075-0D0D-40CE-8376-BBA0EC215252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DD1AB-3CAD-4681-BF79-DB05EE6A94AD}" type="datetime">
              <a:rPr b="0" lang="en-US" sz="1200" spc="-1" strike="noStrike">
                <a:solidFill>
                  <a:srgbClr val="bcbcbc"/>
                </a:solidFill>
                <a:latin typeface="Book Antiqu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7E588-A14A-4947-A6FD-D724B217E3AD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76EA2-8E0C-46E3-A9C3-944F729F7C6C}" type="datetime">
              <a:rPr b="0" lang="en-US" sz="1200" spc="-1" strike="noStrike">
                <a:solidFill>
                  <a:srgbClr val="bcbcbc"/>
                </a:solidFill>
                <a:latin typeface="Book Antiqu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719D8-718F-4DE8-9A01-8A3DEA5EE537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FAB87-B58F-4696-9C63-2F647E167A2F}" type="datetime">
              <a:rPr b="0" lang="en-US" sz="1200" spc="-1" strike="noStrike">
                <a:solidFill>
                  <a:srgbClr val="bcbcbc"/>
                </a:solidFill>
                <a:latin typeface="Book Antiqu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B1222-D587-4D4A-9A0D-20691D8E5478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A8436-B426-4095-9695-87E7E7AB6DBD}" type="datetime">
              <a:rPr b="0" lang="en-US" sz="1200" spc="-1" strike="noStrike">
                <a:solidFill>
                  <a:srgbClr val="bcbcbc"/>
                </a:solidFill>
                <a:latin typeface="Book Antiqu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897AE-BC7E-408D-A7C6-3E3A6A7E3943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FCC73-4189-4559-8626-12262BC1CD08}" type="datetime">
              <a:rPr b="0" lang="en-US" sz="1200" spc="-1" strike="noStrike">
                <a:solidFill>
                  <a:srgbClr val="bcbcbc"/>
                </a:solidFill>
                <a:latin typeface="Book Antiqu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A249D-31D9-40D5-ABCB-EA8ABF1AD9B2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62E7D-D0D7-415D-BCA1-B5C122EB23A0}" type="datetime">
              <a:rPr b="0" lang="en-US" sz="1200" spc="-1" strike="noStrike">
                <a:solidFill>
                  <a:srgbClr val="bcbcbc"/>
                </a:solidFill>
                <a:latin typeface="Book Antiqu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F322A-B5BD-4CF7-8D68-093D54FC0BA1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Заголовок 1" descr=""/>
          <p:cNvPicPr/>
          <p:nvPr/>
        </p:nvPicPr>
        <p:blipFill>
          <a:blip r:embed="rId1"/>
          <a:stretch/>
        </p:blipFill>
        <p:spPr>
          <a:xfrm>
            <a:off x="725400" y="603360"/>
            <a:ext cx="8747280" cy="258444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2" descr=""/>
          <p:cNvPicPr/>
          <p:nvPr/>
        </p:nvPicPr>
        <p:blipFill>
          <a:blip r:embed="rId2"/>
          <a:stretch/>
        </p:blipFill>
        <p:spPr>
          <a:xfrm>
            <a:off x="5975280" y="2087640"/>
            <a:ext cx="2089080" cy="414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Picture 5" descr="Русско-японская война 1904-1905"/>
          <p:cNvPicPr/>
          <p:nvPr/>
        </p:nvPicPr>
        <p:blipFill>
          <a:blip r:embed="rId1"/>
          <a:srcRect l="0" t="72491" r="0" b="0"/>
          <a:stretch/>
        </p:blipFill>
        <p:spPr>
          <a:xfrm>
            <a:off x="0" y="2362320"/>
            <a:ext cx="9144000" cy="4267080"/>
          </a:xfrm>
          <a:prstGeom prst="rect">
            <a:avLst/>
          </a:prstGeom>
          <a:ln w="0">
            <a:noFill/>
          </a:ln>
        </p:spPr>
      </p:pic>
      <p:pic>
        <p:nvPicPr>
          <p:cNvPr id="602" name="Заголовок 2" descr=""/>
          <p:cNvPicPr/>
          <p:nvPr/>
        </p:nvPicPr>
        <p:blipFill>
          <a:blip r:embed="rId2"/>
          <a:stretch/>
        </p:blipFill>
        <p:spPr>
          <a:xfrm>
            <a:off x="0" y="274680"/>
            <a:ext cx="9144000" cy="1882800"/>
          </a:xfrm>
          <a:prstGeom prst="rect">
            <a:avLst/>
          </a:prstGeom>
          <a:ln w="0">
            <a:noFill/>
          </a:ln>
        </p:spPr>
      </p:pic>
      <p:pic>
        <p:nvPicPr>
          <p:cNvPr id="603" name="Рисунок 4" descr="48567611_Sergey_Vitte.jpg"/>
          <p:cNvPicPr/>
          <p:nvPr/>
        </p:nvPicPr>
        <p:blipFill>
          <a:blip r:embed="rId3"/>
          <a:stretch/>
        </p:blipFill>
        <p:spPr>
          <a:xfrm>
            <a:off x="6896160" y="0"/>
            <a:ext cx="1600200" cy="23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5" descr="Военно-политические блоки н.XX в."/>
          <p:cNvPicPr/>
          <p:nvPr/>
        </p:nvPicPr>
        <p:blipFill>
          <a:blip r:embed="rId1"/>
          <a:stretch/>
        </p:blipFill>
        <p:spPr>
          <a:xfrm>
            <a:off x="576360" y="647640"/>
            <a:ext cx="8207280" cy="605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9000"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1412"/>
              </a:spcAft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Book Antiqua"/>
                <a:ea typeface="Lucida Sans Unicode"/>
              </a:rPr>
              <a:t>1. Основные направления внешней политики России на рубеже XIX-XX вв. Гаагская конференция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1412"/>
              </a:spcAft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Book Antiqua"/>
                <a:ea typeface="Lucida Sans Unicode"/>
              </a:rPr>
              <a:t>2. Дальневосточная политика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1412"/>
              </a:spcAft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Book Antiqua"/>
                <a:ea typeface="Lucida Sans Unicode"/>
              </a:rPr>
              <a:t>3. Начало Русско-Японской войны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1412"/>
              </a:spcAft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Book Antiqua"/>
                <a:ea typeface="Lucida Sans Unicode"/>
              </a:rPr>
              <a:t>4. Падение Порт-Артура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1412"/>
              </a:spcAft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Book Antiqua"/>
                <a:ea typeface="Lucida Sans Unicode"/>
              </a:rPr>
              <a:t>5. Ход военных действий в 1905 г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1412"/>
              </a:spcAft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Book Antiqua"/>
                <a:ea typeface="Lucida Sans Unicode"/>
              </a:rPr>
              <a:t>6. Окончание войны. Сближение России и Англии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0" name="Заголовок 2" descr=""/>
          <p:cNvPicPr/>
          <p:nvPr/>
        </p:nvPicPr>
        <p:blipFill>
          <a:blip r:embed="rId1"/>
          <a:stretch/>
        </p:blipFill>
        <p:spPr>
          <a:xfrm>
            <a:off x="0" y="-12600"/>
            <a:ext cx="8229600" cy="138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Заголовок 2" descr=""/>
          <p:cNvPicPr/>
          <p:nvPr/>
        </p:nvPicPr>
        <p:blipFill>
          <a:blip r:embed="rId1"/>
          <a:stretch/>
        </p:blipFill>
        <p:spPr>
          <a:xfrm>
            <a:off x="0" y="12600"/>
            <a:ext cx="8424720" cy="175572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2" descr=""/>
          <p:cNvPicPr/>
          <p:nvPr/>
        </p:nvPicPr>
        <p:blipFill>
          <a:blip r:embed="rId2"/>
          <a:stretch/>
        </p:blipFill>
        <p:spPr>
          <a:xfrm>
            <a:off x="900000" y="1700280"/>
            <a:ext cx="2735280" cy="3600360"/>
          </a:xfrm>
          <a:prstGeom prst="rect">
            <a:avLst/>
          </a:prstGeom>
          <a:ln w="0">
            <a:noFill/>
          </a:ln>
        </p:spPr>
      </p:pic>
      <p:sp>
        <p:nvSpPr>
          <p:cNvPr id="583" name="TextBox 3"/>
          <p:cNvSpPr/>
          <p:nvPr/>
        </p:nvSpPr>
        <p:spPr>
          <a:xfrm>
            <a:off x="3924360" y="1552680"/>
            <a:ext cx="4897440" cy="4904280"/>
          </a:xfrm>
          <a:prstGeom prst="pie">
            <a:avLst/>
          </a:prstGeom>
          <a:solidFill>
            <a:srgbClr val="ffffff"/>
          </a:solidFill>
          <a:ln w="38160">
            <a:solidFill>
              <a:srgbClr val="f3a4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Microsoft YaHei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Book Antiqua"/>
                <a:ea typeface="Microsoft YaHei"/>
              </a:rPr>
              <a:t>Задачи внешней политики Николая I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262626"/>
              </a:buClr>
              <a:buSzPct val="4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 Antiqua"/>
                <a:ea typeface="Microsoft YaHei"/>
              </a:rPr>
              <a:t>Сохранить сложившееся положение и не допустить новых военных конфликтов в Европ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262626"/>
              </a:buClr>
              <a:buSzPct val="4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 Antiqua"/>
                <a:ea typeface="Microsoft YaHei"/>
              </a:rPr>
              <a:t>Расширить сферу влияния России н Дальнем Восток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Прямоугольник 3"/>
          <p:cNvSpPr/>
          <p:nvPr/>
        </p:nvSpPr>
        <p:spPr>
          <a:xfrm>
            <a:off x="356040" y="333360"/>
            <a:ext cx="8432280" cy="1739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Book Antiqua"/>
                <a:ea typeface="Microsoft YaHei"/>
              </a:rPr>
              <a:t>Гаагская конференци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5" name="Picture 2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5715000" cy="4257720"/>
          </a:xfrm>
          <a:prstGeom prst="rect">
            <a:avLst/>
          </a:prstGeom>
          <a:ln w="0">
            <a:noFill/>
          </a:ln>
        </p:spPr>
      </p:pic>
      <p:sp>
        <p:nvSpPr>
          <p:cNvPr id="586" name="TextBox 4"/>
          <p:cNvSpPr/>
          <p:nvPr/>
        </p:nvSpPr>
        <p:spPr>
          <a:xfrm>
            <a:off x="468360" y="5889600"/>
            <a:ext cx="4822920" cy="638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  <a:ea typeface="Microsoft YaHei"/>
              </a:rPr>
              <a:t>Российская делегация на Гаагской конференции по разоружению, 1899 г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Скругленный прямоугольник 7"/>
          <p:cNvSpPr/>
          <p:nvPr/>
        </p:nvSpPr>
        <p:spPr>
          <a:xfrm>
            <a:off x="6372360" y="1295280"/>
            <a:ext cx="2700360" cy="5232600"/>
          </a:xfrm>
          <a:custGeom>
            <a:avLst/>
            <a:gdLst>
              <a:gd name="textAreaLeft" fmla="*/ 131760 w 2700360"/>
              <a:gd name="textAreaRight" fmla="*/ 2568600 w 2700360"/>
              <a:gd name="textAreaTop" fmla="*/ 131760 h 5232600"/>
              <a:gd name="textAreaBottom" fmla="*/ 5100840 h 5232600"/>
            </a:gdLst>
            <a:ahLst/>
            <a:rect l="textAreaLeft" t="textAreaTop" r="textAreaRight" b="textAreaBottom"/>
            <a:pathLst>
              <a:path w="2700338" h="5232400">
                <a:moveTo>
                  <a:pt x="450056" y="0"/>
                </a:moveTo>
                <a:lnTo>
                  <a:pt x="450056" y="0"/>
                </a:lnTo>
                <a:arcTo wR="450056" hR="450056" stAng="-5400000" swAng="-5400000"/>
                <a:lnTo>
                  <a:pt x="0" y="4782344"/>
                </a:lnTo>
                <a:lnTo>
                  <a:pt x="0" y="4782344"/>
                </a:lnTo>
                <a:arcTo wR="450056" hR="450056" stAng="10800000" swAng="-5400000"/>
                <a:lnTo>
                  <a:pt x="2250282" y="5232400"/>
                </a:lnTo>
                <a:lnTo>
                  <a:pt x="2250282" y="5232400"/>
                </a:lnTo>
                <a:arcTo wR="450056" hR="450056" stAng="5400000" swAng="-5400000"/>
                <a:lnTo>
                  <a:pt x="2700338" y="450056"/>
                </a:lnTo>
                <a:lnTo>
                  <a:pt x="2700338" y="450056"/>
                </a:lnTo>
                <a:arcTo wR="450056" hR="450056" stAng="0" swAng="-5400000"/>
                <a:lnTo>
                  <a:pt x="450056" y="0"/>
                </a:lnTo>
                <a:close/>
              </a:path>
            </a:pathLst>
          </a:custGeom>
          <a:solidFill>
            <a:srgbClr val="0000ff"/>
          </a:solidFill>
          <a:ln w="38160">
            <a:solidFill>
              <a:srgbClr val="7a85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TextBox 11"/>
          <p:cNvSpPr/>
          <p:nvPr/>
        </p:nvSpPr>
        <p:spPr>
          <a:xfrm>
            <a:off x="6588000" y="1440000"/>
            <a:ext cx="2232000" cy="16142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  <a:ea typeface="Microsoft YaHei"/>
              </a:rPr>
              <a:t>Июнь 1899 г.- международная Гаагская конференц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  <a:ea typeface="Microsoft YaHe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TextBox 12"/>
          <p:cNvSpPr/>
          <p:nvPr/>
        </p:nvSpPr>
        <p:spPr>
          <a:xfrm>
            <a:off x="6372360" y="3500280"/>
            <a:ext cx="2592360" cy="3382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  <a:ea typeface="Microsoft YaHei"/>
              </a:rPr>
              <a:t>Итог встреч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  <a:ea typeface="Microsoft YaHei"/>
              </a:rPr>
              <a:t>Создан международный суд для разбирательства конфликтов между государства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  <a:ea typeface="Microsoft YaHei"/>
              </a:rPr>
              <a:t>Запрещено использовать удушливые газы; не применять снаряд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Прямоугольник 3"/>
          <p:cNvSpPr/>
          <p:nvPr/>
        </p:nvSpPr>
        <p:spPr>
          <a:xfrm>
            <a:off x="1199160" y="44280"/>
            <a:ext cx="6579000" cy="1739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Book Antiqua"/>
                <a:ea typeface="Microsoft YaHei"/>
              </a:rPr>
              <a:t>Дальневосточна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Book Antiqua"/>
                <a:ea typeface="Microsoft YaHei"/>
              </a:rPr>
              <a:t>политик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TextBox 4"/>
          <p:cNvSpPr/>
          <p:nvPr/>
        </p:nvSpPr>
        <p:spPr>
          <a:xfrm>
            <a:off x="684360" y="1413000"/>
            <a:ext cx="7630920" cy="4113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 Antiqua"/>
                <a:ea typeface="Microsoft YaHei"/>
              </a:rPr>
              <a:t>Главным препятствием на пути к преобладанию России на Дальнем Востоке была Япо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Book Antiqua"/>
                <a:ea typeface="Microsoft YaHei"/>
              </a:rPr>
              <a:t>1896 г. Договор Китая и России об оборонительном сою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Book Antiqua"/>
                <a:ea typeface="Microsoft YaHei"/>
              </a:rPr>
              <a:t>Май  1898 г. Россия и Китай подписали договор об аренде на 25 лет Ляодунского полуострова и Порт- Артура с правом создания там российской военно- морской баз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  <a:ea typeface="Lucida Sans Unicode"/>
              </a:rPr>
              <a:t>С августа 1903 года Япония вела переговоры с Россией, требовала права на преобладание в Корее, не соглашалась на частичные уступки и к декабрю уже была готова к нападению. Никакие действия России не смогли бы остановить войну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  <a:ea typeface="Lucida Sans Unicode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Book Antiqua"/>
                <a:ea typeface="Lucida Sans Unicode"/>
              </a:rPr>
              <a:t>Причины войны:</a:t>
            </a:r>
            <a:r>
              <a:rPr b="0" lang="ru-RU" sz="1700" spc="-1" strike="noStrike">
                <a:solidFill>
                  <a:srgbClr val="ffffff"/>
                </a:solidFill>
                <a:latin typeface="Book Antiqua"/>
                <a:ea typeface="Lucida Sans Unicode"/>
              </a:rPr>
              <a:t>1. </a:t>
            </a:r>
            <a:r>
              <a:rPr b="1" lang="ru-RU" sz="1700" spc="-1" strike="noStrike">
                <a:solidFill>
                  <a:srgbClr val="ffffff"/>
                </a:solidFill>
                <a:latin typeface="Book Antiqua"/>
                <a:ea typeface="Lucida Sans Unicode"/>
              </a:rPr>
              <a:t>Стремление России укрепиться на «незамерзающих морях» Китая и Кореи. 2. Стремление ведущих держав не допустить усиления России на Дальнем Востоке. Поддержка Японии со стороны США и Великобритании.3. Стремление Японии вытеснить русскую армию из Китая и захватить Корею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 Antiqua"/>
                <a:ea typeface="Lucida Sans Unicode"/>
              </a:rPr>
              <a:t>Соотношение сил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  <a:ea typeface="Lucida Sans Unicode"/>
              </a:rPr>
              <a:t>К 1904 году русская армия насчитывала: в Маньчжурии – ок. 28 тысяч, в Порт-Артуре – ок. 22 тысяч. Япония имела более 440 тысяч. Артиллерия, стрелковое оружие, корабли Японии было намного лучше, чем у России. Как победить в такой войне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3" name="Заголовок 2" descr=""/>
          <p:cNvPicPr/>
          <p:nvPr/>
        </p:nvPicPr>
        <p:blipFill>
          <a:blip r:embed="rId1"/>
          <a:stretch/>
        </p:blipFill>
        <p:spPr>
          <a:xfrm>
            <a:off x="0" y="0"/>
            <a:ext cx="8229600" cy="18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2" descr=""/>
          <p:cNvPicPr/>
          <p:nvPr/>
        </p:nvPicPr>
        <p:blipFill>
          <a:blip r:embed="rId1"/>
          <a:stretch/>
        </p:blipFill>
        <p:spPr>
          <a:xfrm>
            <a:off x="3564000" y="333360"/>
            <a:ext cx="5184720" cy="6264360"/>
          </a:xfrm>
          <a:prstGeom prst="rect">
            <a:avLst/>
          </a:prstGeom>
          <a:ln w="0">
            <a:noFill/>
          </a:ln>
        </p:spPr>
      </p:pic>
      <p:sp>
        <p:nvSpPr>
          <p:cNvPr id="595" name="TextBox 3"/>
          <p:cNvSpPr/>
          <p:nvPr/>
        </p:nvSpPr>
        <p:spPr>
          <a:xfrm>
            <a:off x="252360" y="476280"/>
            <a:ext cx="3382920" cy="3382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  <a:ea typeface="Microsoft YaHei"/>
              </a:rPr>
              <a:t>В ночь на 27 января 1904 г., без объявления войны, японские корабли атаковали русскую эскадру, в итоге 2 броненосца и 1 крейсер получили поврежд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2" descr=""/>
          <p:cNvPicPr/>
          <p:nvPr/>
        </p:nvPicPr>
        <p:blipFill>
          <a:blip r:embed="rId1"/>
          <a:stretch/>
        </p:blipFill>
        <p:spPr>
          <a:xfrm>
            <a:off x="324000" y="115920"/>
            <a:ext cx="6912000" cy="4572000"/>
          </a:xfrm>
          <a:prstGeom prst="rect">
            <a:avLst/>
          </a:prstGeom>
          <a:ln w="0">
            <a:noFill/>
          </a:ln>
        </p:spPr>
      </p:pic>
      <p:sp>
        <p:nvSpPr>
          <p:cNvPr id="597" name="TextBox 4"/>
          <p:cNvSpPr/>
          <p:nvPr/>
        </p:nvSpPr>
        <p:spPr>
          <a:xfrm>
            <a:off x="7308720" y="217440"/>
            <a:ext cx="1582920" cy="20106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  <a:ea typeface="Microsoft YaHei"/>
              </a:rPr>
              <a:t>Уничтожение русских крейсеров "Варяг" и "Кореец" в заливе Чемульп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TextBox 5"/>
          <p:cNvSpPr/>
          <p:nvPr/>
        </p:nvSpPr>
        <p:spPr>
          <a:xfrm>
            <a:off x="395280" y="4770360"/>
            <a:ext cx="7848720" cy="2529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  <a:ea typeface="Microsoft YaHei"/>
              </a:rPr>
              <a:t>27 января 1904 г. в порту Чемульпо 14 японских кораблей напали на крейсер «Варяг» и канонерскую лодку «Кореец», в результате неравного боя русские моряки потопили крейсер, а лодку взорвал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  <a:ea typeface="Microsoft YaHei"/>
              </a:rPr>
              <a:t>31 марта в бою наскочил на мину флагманский броненосец «Петропавловск», в результате вице- адмирал С.О.Макаров и весь его штаб (29 офицеров и 652 матроса) погибли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Объект 3"/>
          <p:cNvSpPr/>
          <p:nvPr/>
        </p:nvSpPr>
        <p:spPr>
          <a:xfrm>
            <a:off x="457200" y="115920"/>
            <a:ext cx="8229600" cy="4692600"/>
          </a:xfrm>
          <a:prstGeom prst="rect">
            <a:avLst/>
          </a:prstGeom>
          <a:solidFill>
            <a:srgbClr val="cfe7f5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0" name="Picture 2" descr=""/>
          <p:cNvPicPr/>
          <p:nvPr/>
        </p:nvPicPr>
        <p:blipFill>
          <a:blip r:embed="rId1"/>
          <a:stretch/>
        </p:blipFill>
        <p:spPr>
          <a:xfrm>
            <a:off x="395280" y="115920"/>
            <a:ext cx="8353440" cy="6553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0T04:59:52Z</dcterms:created>
  <dc:creator>Школа</dc:creator>
  <dc:description/>
  <dc:language>en-US</dc:language>
  <cp:lastModifiedBy>Школа</cp:lastModifiedBy>
  <dcterms:modified xsi:type="dcterms:W3CDTF">2016-03-20T05:00:58Z</dcterms:modified>
  <cp:revision>1</cp:revision>
  <dc:subject/>
  <dc:title>Внешняя политика Николая II.  Русско-Японская война  1904-1905 гг.</dc:title>
</cp:coreProperties>
</file>